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5.wmf" ContentType="image/x-wmf"/>
  <Override PartName="/ppt/media/glass.wav" ContentType="audio/x-wav"/>
  <Override PartName="/ppt/media/image4.wmf" ContentType="image/x-wmf"/>
  <Override PartName="/ppt/media/EXPLODE.WAV" ContentType="audio/x-wav"/>
  <Override PartName="/ppt/media/image3.wmf" ContentType="image/x-wmf"/>
  <Override PartName="/ppt/media/image1.wmf" ContentType="image/x-wmf"/>
  <Override PartName="/ppt/media/projctor.wav" ContentType="audio/x-wav"/>
  <Override PartName="/ppt/media/LASER.WAV" ContentType="audio/x-wav"/>
  <Override PartName="/ppt/media/image13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9.wmf" ContentType="image/x-wmf"/>
  <Override PartName="/ppt/media/WHOOSH.WAV" ContentType="audio/x-wav"/>
  <Override PartName="/ppt/media/CHIMES.WAV" ContentType="audio/x-wav"/>
  <Override PartName="/ppt/media/image6.wmf" ContentType="image/x-wmf"/>
  <Override PartName="/ppt/media/gunshot.wav" ContentType="audio/x-wav"/>
  <Override PartName="/ppt/media/image11.wmf" ContentType="image/x-wmf"/>
  <Override PartName="/ppt/media/driveby.wav" ContentType="audio/x-wav"/>
  <Override PartName="/ppt/media/image2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374-3D63-40DE-BE7D-4B2876AC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7BFF-A7C0-4B0C-870E-4DDCB3FE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E68-6502-4E07-90CE-39CB4FA9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39F-40D5-40DC-8594-63CC9F3C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10F-CFE2-4521-9509-928DFFC6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4F16-D4B6-4D21-B783-9D9B3F03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003-A34A-4D1C-9924-8BB39CD9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F342-C5F5-43D4-ABF8-3338207F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6001-0B46-467B-9D6F-53068E5C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ED9-0580-4DC0-835D-287A5169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9A76-A920-45EE-B2D4-B6052484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66C0-3D2F-44DD-90A5-1F6F132C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AC33-59E9-45B4-B736-07307967B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driveby.wav"/><Relationship Id="rId6" Type="http://schemas.openxmlformats.org/officeDocument/2006/relationships/audio" Target="../media/driveby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.wmf"/><Relationship Id="rId35" Type="http://schemas.openxmlformats.org/officeDocument/2006/relationships/audio" Target="../media/WHOOSH.WAV"/><Relationship Id="rId36" Type="http://schemas.openxmlformats.org/officeDocument/2006/relationships/audio" Target="../media/CHIMES.WAV"/><Relationship Id="rId37" Type="http://schemas.openxmlformats.org/officeDocument/2006/relationships/audio" Target="../media/driveby.wav"/><Relationship Id="rId38" Type="http://schemas.openxmlformats.org/officeDocument/2006/relationships/audio" Target="../media/driveby.wav"/><Relationship Id="rId39" Type="http://schemas.openxmlformats.org/officeDocument/2006/relationships/audio" Target="../media/gunshot.wav"/><Relationship Id="rId40" Type="http://schemas.openxmlformats.org/officeDocument/2006/relationships/audio" Target="../media/gunshot.wav"/><Relationship Id="rId41" Type="http://schemas.openxmlformats.org/officeDocument/2006/relationships/audio" Target="../media/gunshot.wav"/><Relationship Id="rId42" Type="http://schemas.openxmlformats.org/officeDocument/2006/relationships/audio" Target="../media/gunshot.wav"/><Relationship Id="rId43" Type="http://schemas.openxmlformats.org/officeDocument/2006/relationships/audio" Target="../media/gunshot.wav"/><Relationship Id="rId44" Type="http://schemas.openxmlformats.org/officeDocument/2006/relationships/audio" Target="../media/gunshot.wav"/><Relationship Id="rId45" Type="http://schemas.openxmlformats.org/officeDocument/2006/relationships/audio" Target="../media/driveby.wav"/><Relationship Id="rId46" Type="http://schemas.openxmlformats.org/officeDocument/2006/relationships/audio" Target="../media/LASER.WAV"/><Relationship Id="rId47" Type="http://schemas.openxmlformats.org/officeDocument/2006/relationships/audio" Target="../media/LASER.WAV"/><Relationship Id="rId48" Type="http://schemas.openxmlformats.org/officeDocument/2006/relationships/audio" Target="../media/LASER.WAV"/><Relationship Id="rId49" Type="http://schemas.openxmlformats.org/officeDocument/2006/relationships/audio" Target="../media/LASER.WAV"/><Relationship Id="rId50" Type="http://schemas.openxmlformats.org/officeDocument/2006/relationships/audio" Target="../media/projctor.wav"/><Relationship Id="rId51" Type="http://schemas.openxmlformats.org/officeDocument/2006/relationships/audio" Target="../media/EXPLODE.WAV"/><Relationship Id="rId52" Type="http://schemas.openxmlformats.org/officeDocument/2006/relationships/audio" Target="../media/EXPLODE.WAV"/><Relationship Id="rId53" Type="http://schemas.openxmlformats.org/officeDocument/2006/relationships/audio" Target="../media/EXPLODE.WAV"/><Relationship Id="rId54" Type="http://schemas.openxmlformats.org/officeDocument/2006/relationships/audio" Target="../media/EXPLODE.WAV"/><Relationship Id="rId55" Type="http://schemas.openxmlformats.org/officeDocument/2006/relationships/audio" Target="../media/LASER.WAV"/><Relationship Id="rId56" Type="http://schemas.openxmlformats.org/officeDocument/2006/relationships/audio" Target="../media/LASER.WAV"/><Relationship Id="rId57" Type="http://schemas.openxmlformats.org/officeDocument/2006/relationships/audio" Target="../media/projctor.wav"/><Relationship Id="rId58" Type="http://schemas.openxmlformats.org/officeDocument/2006/relationships/audio" Target="../media/EXPLODE.WAV"/><Relationship Id="rId59" Type="http://schemas.openxmlformats.org/officeDocument/2006/relationships/audio" Target="../media/EXPLODE.WAV"/><Relationship Id="rId60" Type="http://schemas.openxmlformats.org/officeDocument/2006/relationships/audio" Target="../media/EXPLODE.WAV"/><Relationship Id="rId61" Type="http://schemas.openxmlformats.org/officeDocument/2006/relationships/audio" Target="../media/glass.wav"/><Relationship Id="rId62" Type="http://schemas.openxmlformats.org/officeDocument/2006/relationships/audio" Target="../media/EXPLODE.WAV"/><Relationship Id="rId63" Type="http://schemas.openxmlformats.org/officeDocument/2006/relationships/audio" Target="../media/EXPLODE.WAV"/><Relationship Id="rId64" Type="http://schemas.openxmlformats.org/officeDocument/2006/relationships/audio" Target="../media/EXPLODE.WAV"/><Relationship Id="rId65" Type="http://schemas.openxmlformats.org/officeDocument/2006/relationships/audio" Target="../media/EXPLODE.WAV"/><Relationship Id="rId66" Type="http://schemas.openxmlformats.org/officeDocument/2006/relationships/audio" Target="../media/EXPLODE.WAV"/><Relationship Id="rId67" Type="http://schemas.openxmlformats.org/officeDocument/2006/relationships/audio" Target="../media/EXPLODE.WAV"/><Relationship Id="rId6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driveby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driveby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driveby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 Exercises 1 and 2, draw a scatter plot of the data. If possible, draw a best-fitting line for the scatter plot and write an equation of th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38080" y="2971800"/>
            <a:ext cx="3276720" cy="3276720"/>
            <a:chOff x="838080" y="2971800"/>
            <a:chExt cx="3276720" cy="3276720"/>
          </a:xfrm>
        </p:grpSpPr>
        <p:sp>
          <p:nvSpPr>
            <p:cNvPr id="44" name=""/>
            <p:cNvSpPr/>
            <p:nvPr/>
          </p:nvSpPr>
          <p:spPr>
            <a:xfrm>
              <a:off x="838080" y="3790800"/>
              <a:ext cx="3276720" cy="27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4063680"/>
              <a:ext cx="327672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4336920"/>
              <a:ext cx="327672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8080" y="4610160"/>
              <a:ext cx="3276720" cy="27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38080" y="4882680"/>
              <a:ext cx="327672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8080" y="5155920"/>
              <a:ext cx="327672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38080" y="5429160"/>
              <a:ext cx="3276720" cy="27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8080" y="5702040"/>
              <a:ext cx="327672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5975280"/>
              <a:ext cx="327672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38080" y="3517560"/>
              <a:ext cx="273024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2971800"/>
              <a:ext cx="27252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10600" y="2971800"/>
              <a:ext cx="27288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83840" y="3517560"/>
              <a:ext cx="272880" cy="273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7080" y="2971800"/>
              <a:ext cx="27252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29960" y="3517560"/>
              <a:ext cx="272880" cy="273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03200" y="2971800"/>
              <a:ext cx="27288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76440" y="3517560"/>
              <a:ext cx="272520" cy="273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48960" y="2971800"/>
              <a:ext cx="27288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22200" y="3517560"/>
              <a:ext cx="272880" cy="273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95440" y="2971800"/>
              <a:ext cx="27252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68320" y="2971800"/>
              <a:ext cx="27288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41560" y="3517560"/>
              <a:ext cx="272880" cy="273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8080" y="3244320"/>
              <a:ext cx="327672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8080" y="2971800"/>
              <a:ext cx="3276720" cy="27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143000" y="1523880"/>
            <a:ext cx="7010280" cy="1143000"/>
            <a:chOff x="1143000" y="1523880"/>
            <a:chExt cx="7010280" cy="1143000"/>
          </a:xfrm>
        </p:grpSpPr>
        <p:sp>
          <p:nvSpPr>
            <p:cNvPr id="69" name=""/>
            <p:cNvSpPr/>
            <p:nvPr/>
          </p:nvSpPr>
          <p:spPr>
            <a:xfrm>
              <a:off x="1676520" y="1523880"/>
              <a:ext cx="6476760" cy="11430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76520" y="2057400"/>
              <a:ext cx="6476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668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812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956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100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100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244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244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2388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388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532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676520" y="1523880"/>
              <a:ext cx="647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         1        2        3         4        5        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2133720"/>
              <a:ext cx="647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         7        0        1         0        7        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43000" y="1752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380960" y="2717640"/>
            <a:ext cx="1800" cy="3780000"/>
          </a:xfrm>
          <a:custGeom>
            <a:avLst/>
            <a:gdLst/>
            <a:ahLst/>
            <a:rect l="l" t="t" r="r" b="b"/>
            <a:pathLst>
              <a:path w="1" h="2381">
                <a:moveTo>
                  <a:pt x="0" y="2381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cc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0360" y="5705640"/>
            <a:ext cx="3759120" cy="1440"/>
          </a:xfrm>
          <a:custGeom>
            <a:avLst/>
            <a:gdLst/>
            <a:ahLst/>
            <a:rect l="l" t="t" r="r" b="b"/>
            <a:pathLst>
              <a:path w="2368" h="1">
                <a:moveTo>
                  <a:pt x="0" y="0"/>
                </a:moveTo>
                <a:lnTo>
                  <a:pt x="2368" y="1"/>
                </a:lnTo>
              </a:path>
            </a:pathLst>
          </a:custGeom>
          <a:noFill/>
          <a:ln w="28440">
            <a:solidFill>
              <a:srgbClr val="cc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3733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5638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5334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56386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37339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365760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No line represents all of the dat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 Exercises 1 and 2, draw a scatter plot of the data. If possible, draw a best-fitting line for the scatter plot and write an equation of th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2895480"/>
            <a:ext cx="3276360" cy="3276720"/>
            <a:chOff x="533520" y="2895480"/>
            <a:chExt cx="3276360" cy="3276720"/>
          </a:xfrm>
        </p:grpSpPr>
        <p:sp>
          <p:nvSpPr>
            <p:cNvPr id="98" name=""/>
            <p:cNvSpPr/>
            <p:nvPr/>
          </p:nvSpPr>
          <p:spPr>
            <a:xfrm>
              <a:off x="533520" y="3714480"/>
              <a:ext cx="3276360" cy="27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520" y="3987360"/>
              <a:ext cx="327636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4260600"/>
              <a:ext cx="327636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3520" y="4533840"/>
              <a:ext cx="3276360" cy="27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520" y="4806360"/>
              <a:ext cx="327636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520" y="5079600"/>
              <a:ext cx="327636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520" y="5352840"/>
              <a:ext cx="3276360" cy="27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3520" y="5625720"/>
              <a:ext cx="327636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3520" y="5898960"/>
              <a:ext cx="327636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3441240"/>
              <a:ext cx="272988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3520" y="2895480"/>
              <a:ext cx="27252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6040" y="2895480"/>
              <a:ext cx="27288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79280" y="3441240"/>
              <a:ext cx="272880" cy="273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52520" y="2895480"/>
              <a:ext cx="27252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25400" y="3441240"/>
              <a:ext cx="272880" cy="273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8280" y="2895480"/>
              <a:ext cx="27288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71520" y="3441240"/>
              <a:ext cx="272520" cy="273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44400" y="2895480"/>
              <a:ext cx="27288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17640" y="3441240"/>
              <a:ext cx="272880" cy="273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90520" y="2895480"/>
              <a:ext cx="27252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63400" y="2895480"/>
              <a:ext cx="27288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36640" y="3441240"/>
              <a:ext cx="272880" cy="273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3520" y="3168000"/>
              <a:ext cx="3276360" cy="27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3520" y="2895480"/>
              <a:ext cx="3276360" cy="27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143000" y="1523880"/>
            <a:ext cx="7010280" cy="1143000"/>
            <a:chOff x="1143000" y="1523880"/>
            <a:chExt cx="7010280" cy="1143000"/>
          </a:xfrm>
        </p:grpSpPr>
        <p:sp>
          <p:nvSpPr>
            <p:cNvPr id="123" name=""/>
            <p:cNvSpPr/>
            <p:nvPr/>
          </p:nvSpPr>
          <p:spPr>
            <a:xfrm>
              <a:off x="1676520" y="1523880"/>
              <a:ext cx="6476760" cy="11430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76520" y="2057400"/>
              <a:ext cx="6476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68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812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812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56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100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0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244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88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388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53280" y="1523880"/>
              <a:ext cx="0" cy="1143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6520" y="1523880"/>
              <a:ext cx="647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         1        2        3         4        5        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520" y="2133720"/>
              <a:ext cx="647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         1        0       -2        -2       -3      -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3000" y="1752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076400" y="2641680"/>
            <a:ext cx="1440" cy="3779640"/>
          </a:xfrm>
          <a:custGeom>
            <a:avLst/>
            <a:gdLst/>
            <a:ahLst/>
            <a:rect l="l" t="t" r="r" b="b"/>
            <a:pathLst>
              <a:path w="1" h="2381">
                <a:moveTo>
                  <a:pt x="0" y="2381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cc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4040" y="4251240"/>
            <a:ext cx="3780000" cy="1800"/>
          </a:xfrm>
          <a:custGeom>
            <a:avLst/>
            <a:gdLst/>
            <a:ahLst/>
            <a:rect l="l" t="t" r="r" b="b"/>
            <a:pathLst>
              <a:path w="2381" h="1">
                <a:moveTo>
                  <a:pt x="0" y="0"/>
                </a:moveTo>
                <a:lnTo>
                  <a:pt x="2381" y="0"/>
                </a:lnTo>
              </a:path>
            </a:pathLst>
          </a:custGeom>
          <a:noFill/>
          <a:ln w="28440">
            <a:solidFill>
              <a:srgbClr val="cc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3886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4191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4724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47242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5029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5257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14600" y="3276720"/>
                <a:ext cx="10857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49" name=""/>
          <p:cNvCxnSpPr/>
          <p:nvPr/>
        </p:nvCxnSpPr>
        <p:spPr>
          <a:xfrm flipH="1" flipV="1" rot="5400000">
            <a:off x="1770480" y="3486600"/>
            <a:ext cx="596160" cy="784800"/>
          </a:xfrm>
          <a:prstGeom prst="curvedConnector5">
            <a:avLst>
              <a:gd name="adj1" fmla="val 90634"/>
              <a:gd name="adj2" fmla="val 25699"/>
              <a:gd name="adj3" fmla="val 906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352680" y="3809880"/>
                <a:ext cx="1303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51" name=""/>
          <p:cNvCxnSpPr/>
          <p:nvPr/>
        </p:nvCxnSpPr>
        <p:spPr>
          <a:xfrm flipV="1">
            <a:off x="2590560" y="4190760"/>
            <a:ext cx="686520" cy="90864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528480" y="3149640"/>
            <a:ext cx="3108600" cy="3108240"/>
          </a:xfrm>
          <a:custGeom>
            <a:avLst/>
            <a:gdLst/>
            <a:ahLst/>
            <a:rect l="l" t="t" r="r" b="b"/>
            <a:pathLst>
              <a:path w="1958" h="1958">
                <a:moveTo>
                  <a:pt x="0" y="0"/>
                </a:moveTo>
                <a:lnTo>
                  <a:pt x="1958" y="195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417920" y="4267080"/>
                <a:ext cx="47260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4" name=""/>
          <p:cNvGraphicFramePr/>
          <p:nvPr/>
        </p:nvGraphicFramePr>
        <p:xfrm>
          <a:off x="5410080" y="4343400"/>
          <a:ext cx="4622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4343400"/>
                    <a:ext cx="46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461280" y="4343400"/>
          <a:ext cx="7714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1280" y="4343400"/>
                    <a:ext cx="771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8381880" y="4343400"/>
          <a:ext cx="5130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1880" y="4343400"/>
                    <a:ext cx="513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257800" y="5334120"/>
          <a:ext cx="1028880" cy="66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5334120"/>
                    <a:ext cx="102888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248520" y="5257800"/>
          <a:ext cx="87624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5257800"/>
                    <a:ext cx="8762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7010280" y="5181480"/>
          <a:ext cx="874800" cy="609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10280" y="5181480"/>
                    <a:ext cx="8748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963960" y="2666880"/>
          <a:ext cx="2901960" cy="1347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63960" y="2666880"/>
                    <a:ext cx="290196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030640" y="2819520"/>
          <a:ext cx="395280" cy="52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30640" y="2819520"/>
                    <a:ext cx="3952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945040" y="2819520"/>
          <a:ext cx="702000" cy="52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45040" y="2819520"/>
                    <a:ext cx="70200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032440" y="3429000"/>
          <a:ext cx="438120" cy="522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32440" y="3429000"/>
                    <a:ext cx="4381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095880" y="3429000"/>
          <a:ext cx="397080" cy="522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95880" y="3429000"/>
                    <a:ext cx="3970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783480" y="2666880"/>
          <a:ext cx="1361880" cy="1479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83480" y="2666880"/>
                    <a:ext cx="136188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7469280" y="2819520"/>
          <a:ext cx="395280" cy="522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469280" y="2819520"/>
                    <a:ext cx="3952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7216920" y="3429000"/>
          <a:ext cx="703080" cy="522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216920" y="3429000"/>
                    <a:ext cx="7030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8024760" y="3048120"/>
          <a:ext cx="1096920" cy="52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8024760" y="3048120"/>
                    <a:ext cx="10969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486400" y="2709720"/>
          <a:ext cx="660240" cy="6098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486400" y="2709720"/>
                    <a:ext cx="660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5867280" y="2770200"/>
          <a:ext cx="660600" cy="6094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867280" y="2770200"/>
                    <a:ext cx="660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28600" y="762120"/>
            <a:ext cx="8686800" cy="2361960"/>
            <a:chOff x="228600" y="762120"/>
            <a:chExt cx="8686800" cy="2361960"/>
          </a:xfrm>
        </p:grpSpPr>
        <p:sp>
          <p:nvSpPr>
            <p:cNvPr id="190" name=""/>
            <p:cNvSpPr/>
            <p:nvPr/>
          </p:nvSpPr>
          <p:spPr>
            <a:xfrm>
              <a:off x="228600" y="762120"/>
              <a:ext cx="8686800" cy="2361960"/>
            </a:xfrm>
            <a:prstGeom prst="rect">
              <a:avLst/>
            </a:prstGeom>
            <a:solidFill>
              <a:srgbClr val="cc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600" y="1523880"/>
              <a:ext cx="8686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600" y="2286000"/>
              <a:ext cx="8686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33720" y="762120"/>
              <a:ext cx="0" cy="2361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685800"/>
            <a:ext cx="2438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ositive Correl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447920"/>
            <a:ext cx="2438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Negative Correl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286000"/>
            <a:ext cx="2133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No Correl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762120"/>
            <a:ext cx="6324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838080"/>
            <a:ext cx="6705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oints can be approximated by a positive slop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1676520"/>
            <a:ext cx="6705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oints can be approximated by a negative slop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2438280"/>
            <a:ext cx="6705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oints cannot be approximated by a li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371600" y="3276720"/>
            <a:ext cx="2590920" cy="2895480"/>
            <a:chOff x="1371600" y="3276720"/>
            <a:chExt cx="2590920" cy="2895480"/>
          </a:xfrm>
        </p:grpSpPr>
        <p:grpSp>
          <p:nvGrpSpPr>
            <p:cNvPr id="202" name=""/>
            <p:cNvGrpSpPr/>
            <p:nvPr/>
          </p:nvGrpSpPr>
          <p:grpSpPr>
            <a:xfrm>
              <a:off x="1447920" y="3505320"/>
              <a:ext cx="2438280" cy="2438280"/>
              <a:chOff x="1447920" y="3505320"/>
              <a:chExt cx="2438280" cy="2438280"/>
            </a:xfrm>
          </p:grpSpPr>
          <p:sp>
            <p:nvSpPr>
              <p:cNvPr id="203" name=""/>
              <p:cNvSpPr/>
              <p:nvPr/>
            </p:nvSpPr>
            <p:spPr>
              <a:xfrm>
                <a:off x="1447920" y="35053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447920" y="38098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447920" y="411480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447920" y="44197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447920" y="47242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447920" y="502920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447920" y="53341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447920" y="56386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4479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7524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05740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3623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668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97180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2767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812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2666880" y="3276720"/>
              <a:ext cx="0" cy="2895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71600" y="4724280"/>
              <a:ext cx="25909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 flipV="1">
            <a:off x="1295280" y="3428640"/>
            <a:ext cx="2743200" cy="20574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495680"/>
            <a:ext cx="274320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3809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5715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5410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57150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3809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4038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09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n Exercises 3 and 4, state whether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have a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positive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correlation,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negative correlation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, or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no corre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3880" y="1981080"/>
            <a:ext cx="2133720" cy="21337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685800" y="1981080"/>
            <a:ext cx="2971800" cy="2438640"/>
            <a:chOff x="685800" y="1981080"/>
            <a:chExt cx="2971800" cy="2438640"/>
          </a:xfrm>
        </p:grpSpPr>
        <p:grpSp>
          <p:nvGrpSpPr>
            <p:cNvPr id="233" name=""/>
            <p:cNvGrpSpPr/>
            <p:nvPr/>
          </p:nvGrpSpPr>
          <p:grpSpPr>
            <a:xfrm>
              <a:off x="1219320" y="1981080"/>
              <a:ext cx="2438280" cy="2438640"/>
              <a:chOff x="1219320" y="1981080"/>
              <a:chExt cx="2438280" cy="243864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1219320" y="1981080"/>
                <a:ext cx="2438280" cy="2438640"/>
                <a:chOff x="1219320" y="1981080"/>
                <a:chExt cx="2438280" cy="24386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219320" y="1981080"/>
                  <a:ext cx="24382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19320" y="2286000"/>
                  <a:ext cx="24382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219320" y="2590920"/>
                  <a:ext cx="24382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219320" y="2895480"/>
                  <a:ext cx="24382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219320" y="3200400"/>
                  <a:ext cx="24382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219320" y="3505320"/>
                  <a:ext cx="2438280" cy="304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19320" y="3809880"/>
                  <a:ext cx="24382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219320" y="4114800"/>
                  <a:ext cx="24382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219320" y="1981080"/>
                  <a:ext cx="304560" cy="2438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523880" y="1981080"/>
                  <a:ext cx="304920" cy="2438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828800" y="1981080"/>
                  <a:ext cx="304920" cy="2438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33720" y="1981080"/>
                  <a:ext cx="304560" cy="2438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438280" y="1981080"/>
                  <a:ext cx="304920" cy="2438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743200" y="1981080"/>
                  <a:ext cx="304920" cy="2438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048120" y="1981080"/>
                  <a:ext cx="304560" cy="2438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352680" y="1981080"/>
                  <a:ext cx="304920" cy="2438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1219320" y="3200400"/>
                <a:ext cx="243828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38280" y="1981080"/>
                <a:ext cx="0" cy="243864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752480" y="2209680"/>
                <a:ext cx="15264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362320" y="28195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666880" y="3124080"/>
                <a:ext cx="15264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19520" y="312408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57400" y="23623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57400" y="2514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971800" y="34290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971800" y="358128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276720" y="37339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85800" y="1981080"/>
              <a:ext cx="685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 txBox="1"/>
          <p:nvPr/>
        </p:nvSpPr>
        <p:spPr>
          <a:xfrm>
            <a:off x="4191120" y="2590920"/>
            <a:ext cx="38383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egative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rrelation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09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n Exercises 3 and 4, state whether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have a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positive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correlation,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negative correlation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, or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no corre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191120" y="2590920"/>
            <a:ext cx="38383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o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rrelation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85800" y="1981080"/>
            <a:ext cx="2971800" cy="2438640"/>
            <a:chOff x="685800" y="1981080"/>
            <a:chExt cx="2971800" cy="2438640"/>
          </a:xfrm>
        </p:grpSpPr>
        <p:grpSp>
          <p:nvGrpSpPr>
            <p:cNvPr id="268" name=""/>
            <p:cNvGrpSpPr/>
            <p:nvPr/>
          </p:nvGrpSpPr>
          <p:grpSpPr>
            <a:xfrm>
              <a:off x="1219320" y="1981080"/>
              <a:ext cx="2438280" cy="2438640"/>
              <a:chOff x="1219320" y="1981080"/>
              <a:chExt cx="2438280" cy="2438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219320" y="19810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219320" y="228600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219320" y="25909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219320" y="28954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219320" y="320040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219320" y="35053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19320" y="380988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19320" y="4114800"/>
                <a:ext cx="24382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19320" y="1981080"/>
                <a:ext cx="30456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2388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82880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1981080"/>
                <a:ext cx="30456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43828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4320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048120" y="1981080"/>
                <a:ext cx="30456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352680" y="1981080"/>
                <a:ext cx="304920" cy="2438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1219320" y="3200400"/>
              <a:ext cx="2438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38280" y="1981080"/>
              <a:ext cx="0" cy="24386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47920" y="2514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09680" y="26668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66880" y="31240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66880" y="25146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52480" y="2362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52480" y="29718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71800" y="2819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66880" y="3429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76720" y="2819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5800" y="1981080"/>
              <a:ext cx="685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47920" y="3429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52480" y="32767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09680" y="32767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10-27T13:31:26Z</dcterms:modified>
  <cp:revision>209</cp:revision>
  <dc:subject/>
  <dc:title>No Slide Title</dc:title>
</cp:coreProperties>
</file>